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1647-54D8-461A-B740-499E2A965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FC6F-BA6A-4477-A721-ADE9E771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3BBB-8B72-402A-8871-38991544CD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644-B709-4455-8230-31CAD41B57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333-3A90-4A18-913F-C376D7ED52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23F-25F3-4F24-B6CB-68D85433E8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A61-A0D8-479F-8036-09C34B981B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033-3D7F-4544-8D43-B959911DA9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DC9-DDC1-4D27-8CF0-8B5BB17F7A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706-A998-4CBD-8801-CF81CBEA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CF1-7796-481A-9EE9-77C7C82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AD5-281B-4BC4-BCD7-170FF104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D06-DF3D-49E6-AAEF-DDEA1EEB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6A0-A350-40C5-98B7-341F2529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F4A-B590-4531-AB9A-9C5E9EFA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874-D8FF-421E-AE67-90ACFCC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B5A7-A81A-4526-944C-A4070282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54E-09D8-4906-9055-D51A9407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905F-63E0-4AF0-9F2C-DB2864E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3C2-8A73-444D-B565-FF0EE5A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3D7-1A7E-4DD3-A5D6-299191E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F78-9C32-4B39-ACCF-2472905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D20-8D4C-473E-B5F2-8992B01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1FE-7D64-42D4-8B6F-155CE33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8B6-584F-4610-99EE-E2B8BE58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3F86-3664-4BFF-945C-859D1322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D48-E4A8-4516-A374-B3A914C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D3F-1A9B-44A6-B003-2CAFD80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2C1-3BA8-4418-B057-4804C2E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263-581C-458E-AD3F-25FB9F68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8AD-4719-482F-A3A2-C68B365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CFA-D451-452E-ADF3-A651E325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E20-338E-4E6C-B57B-699D69D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D2C-4A35-4ABE-8AAA-53FE18CA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97D-F60B-471A-B416-F47808B15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us Literacy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, Present, &amp;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us Literacy Qui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14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four Gospels.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a sacred text of Hindui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name of the holy book of Islam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re according to the Bible was Jesus bor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ident George W. Bush spoke in his first inaugural address of the Jericho road. What Bible story was he invok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first five books of the Hebrew Bible or the Christian Old Testamen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Golden Rul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helps those who help themselves": Is this in the Bible? If so, whe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Blessed are the poor in spirit, for theirs is the kingdom of God": Does this appear in the Bible? If so, whe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Ten Commandments.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Four Noble Truths of Buddhi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seven sacraments of Catholicism?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First Amendment says two things about religion, each in its own "clause." What are the two religious clauses of the First Amendmen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Ramadan? In what religion is it celebrate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us Literacy Quiz Ans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, Mark, Luke, John (1 point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include the Vedas, Brahmanas, Aranyakas, Upanishads, Puranas, Mahabharata, Bhagavad Gita, Ramayana, Yoga Sutras, Laws of Manu, Kama Sutra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uran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thlehem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Good Samaritan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sis, Exodus, Leviticus, Numbers, Deuteronomy (1 point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"Do unto others as you would have them do unto you" (Matthew 7:12) or a similar sentiment from Rabbi Hillel or Confucius. ("Love your neighbor as yourself" is not the Golden Rule.)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, this is not in the Bible. In fact, it is contradicted in Proverbs 28:26: "He who trusts in himself is a fool." The words are Ben Franklin's. (2 poin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es, in the Beatitudes of Jesus' Sermon on the Mount (Matthew 5:3) (2 poin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Protestant, Catholic and Jewish versions of the Ten Commandments differ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 Life is suffering, 2. Suffering has an origin, 3. Suffering can be overcome (nirvana), 4. The path to overcoming suffering is the Noble Eightfold Pl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aptism, Eucharist, Reconciliation, Confirmation, Marriage, Holy Orders, Anointing of the Si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"Congress shall make no law respecting an establishment of religion, or prohibiting the free exercise thereof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slim holiday characterized by a month of fas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us views informed the public debate on major 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Pres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ion of Church and State doctrine dominates decision 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public issues with religious viewpoi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pun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y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343400" y="4202280"/>
            <a:ext cx="449568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w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lligent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ilitary/Foreign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lfare poli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s for Education Re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cs/Values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us Literacy of major world reli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cy of World Relig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9/11 apathy, general ignorance, limited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religion as subject ma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about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n in world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and Values in Edu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origins of Wester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rates, Aristotle, Aqu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church schools – morality, values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fter Virt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981) by Alasdair MacIntyre book proposes an Aristotelian account of practice and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education in the practice of shared virtues can itself be a viable practice in our plural society.” Katsushige Katay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 for 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world religions literacy to social studies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moral values education to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personally live your beliefs while serving as a professional public educa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01:27Z</dcterms:created>
  <dc:creator>Vanessa Jakse</dc:creator>
  <dc:description/>
  <dc:language>en-US</dc:language>
  <cp:lastModifiedBy>Campus Computing Sites</cp:lastModifiedBy>
  <dcterms:modified xsi:type="dcterms:W3CDTF">2009-07-28T15:25:38Z</dcterms:modified>
  <cp:revision>13</cp:revision>
  <dc:subject/>
  <dc:title>Religion and the Public Schools</dc:title>
</cp:coreProperties>
</file>